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D8A-A2CF-4F4C-AAE2-0265E948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C1E2-46B2-4820-950F-AA84590F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B4CD-5246-4D85-919D-F771114C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0A0-EA4A-4D44-B81E-66DE8CD2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1D2-A5AF-4B22-8040-47D470B7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5B30-6383-4525-B05E-0C7A77D5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1A4-00B7-41C3-A062-D24DAA3E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2FC5-7101-47A5-89B0-438A21F7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0F7-CA7E-450A-83E6-E6704187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B12-EBF3-4080-A007-DFCA95E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A8D-5BAD-4985-91D8-AB5785C2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04F-EFDA-481A-BDFD-0543C0D7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DFD2-2D61-452B-AEDC-C2530AB74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圖片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"/>
          <p:cNvPicPr/>
          <p:nvPr/>
        </p:nvPicPr>
        <p:blipFill>
          <a:blip r:embed="rId1"/>
          <a:stretch/>
        </p:blipFill>
        <p:spPr>
          <a:xfrm>
            <a:off x="0" y="1925640"/>
            <a:ext cx="914400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35040" y="173160"/>
            <a:ext cx="367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cc"/>
                </a:solidFill>
                <a:latin typeface="Arial"/>
                <a:ea typeface="標楷體"/>
              </a:rPr>
              <a:t>楊梅國中簡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圖片 3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35040" y="173160"/>
            <a:ext cx="367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cc"/>
                </a:solidFill>
                <a:latin typeface="Arial"/>
                <a:ea typeface="標楷體"/>
              </a:rPr>
              <a:t>楊梅國中簡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圖片 2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35040" y="173160"/>
            <a:ext cx="367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cc"/>
                </a:solidFill>
                <a:latin typeface="Arial"/>
                <a:ea typeface="標楷體"/>
              </a:rPr>
              <a:t>楊梅國中簡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圖片 2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35040" y="173160"/>
            <a:ext cx="367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cc"/>
                </a:solidFill>
                <a:latin typeface="Arial"/>
                <a:ea typeface="標楷體"/>
              </a:rPr>
              <a:t>楊梅國中簡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圖片 2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35040" y="173160"/>
            <a:ext cx="367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cc"/>
                </a:solidFill>
                <a:latin typeface="Arial"/>
                <a:ea typeface="標楷體"/>
              </a:rPr>
              <a:t>楊梅國中簡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圖片 2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35040" y="173160"/>
            <a:ext cx="367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cc"/>
                </a:solidFill>
                <a:latin typeface="Arial"/>
                <a:ea typeface="標楷體"/>
              </a:rPr>
              <a:t>楊梅國中簡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圖片 2" descr=""/>
          <p:cNvPicPr/>
          <p:nvPr/>
        </p:nvPicPr>
        <p:blipFill>
          <a:blip r:embed="rId1"/>
          <a:stretch/>
        </p:blipFill>
        <p:spPr>
          <a:xfrm>
            <a:off x="0" y="1316160"/>
            <a:ext cx="914400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635040" y="173160"/>
            <a:ext cx="367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33cc"/>
                </a:solidFill>
                <a:latin typeface="Arial"/>
                <a:ea typeface="標楷體"/>
              </a:rPr>
              <a:t>楊梅國中簡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圖片 2" descr=""/>
          <p:cNvPicPr/>
          <p:nvPr/>
        </p:nvPicPr>
        <p:blipFill>
          <a:blip r:embed="rId1"/>
          <a:stretch/>
        </p:blipFill>
        <p:spPr>
          <a:xfrm>
            <a:off x="2814480" y="1308240"/>
            <a:ext cx="3111480" cy="55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2:32:20Z</dcterms:created>
  <dc:creator>.</dc:creator>
  <dc:description/>
  <dc:language>en-US</dc:language>
  <cp:lastModifiedBy>User</cp:lastModifiedBy>
  <dcterms:modified xsi:type="dcterms:W3CDTF">2016-08-26T06:17:00Z</dcterms:modified>
  <cp:revision>115</cp:revision>
  <dc:subject/>
  <dc:title>歡迎102年生涯教育發展 訪視委員蒞校指導</dc:title>
</cp:coreProperties>
</file>