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65BA-B002-4568-B179-D7070E56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955B-D3C1-4CCE-B658-1364C23F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092A-84AD-4E55-B0D2-FF72DF46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C284-BCD5-47E9-AE51-B7885DD9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34B4-F4D3-4742-83B1-1D3EACA7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4054-5373-4A66-9F53-DF64E0EE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9912-EBCE-4739-A100-7C063488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5940-23B7-4AC7-90A2-B71ECF23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15AC-CF73-4681-AAE1-AB8D77F8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34B1-D5A2-4A11-97CC-9022A9DB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E320-A41F-489F-BE26-0E9C79A2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2F91-0802-4DC5-ABA5-4E21AB66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D1D5-EA44-49AF-B983-306D7D044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圖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圖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92000" y="1844640"/>
            <a:ext cx="56163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333399"/>
                </a:solidFill>
                <a:latin typeface="Arial"/>
                <a:ea typeface="標楷體"/>
              </a:rPr>
              <a:t>桃園市立楊梅國民中學</a:t>
            </a:r>
            <a:br>
              <a:rPr sz="3600"/>
            </a:br>
            <a:r>
              <a:rPr b="1" lang="zh-TW" sz="3600" spc="-1" strike="noStrike">
                <a:solidFill>
                  <a:srgbClr val="333399"/>
                </a:solidFill>
                <a:latin typeface="Arial"/>
                <a:ea typeface="標楷體"/>
              </a:rPr>
              <a:t>　　社會領域介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68360" y="544500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3200" spc="-1" strike="noStrike">
                <a:solidFill>
                  <a:srgbClr val="000000"/>
                </a:solidFill>
                <a:latin typeface="Arial"/>
                <a:ea typeface="標楷體"/>
              </a:rPr>
              <a:t>歡 迎 蒞 臨 指 導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標楷體"/>
              </a:rPr>
              <a:t>~~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目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778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領域成員介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1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課程發展規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標楷體"/>
                <a:ea typeface="標楷體"/>
              </a:rPr>
              <a:t>領域成員介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77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3200" spc="-1" strike="noStrike">
              <a:solidFill>
                <a:srgbClr val="000000"/>
              </a:solidFill>
              <a:latin typeface="標楷體"/>
              <a:ea typeface="標楷體"/>
            </a:endParaRPr>
          </a:p>
        </p:txBody>
      </p:sp>
      <p:pic>
        <p:nvPicPr>
          <p:cNvPr id="49" name="圖片 3" descr="社會領域.JPG"/>
          <p:cNvPicPr/>
          <p:nvPr/>
        </p:nvPicPr>
        <p:blipFill>
          <a:blip r:embed="rId1"/>
          <a:stretch/>
        </p:blipFill>
        <p:spPr>
          <a:xfrm>
            <a:off x="1835280" y="1413000"/>
            <a:ext cx="565452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05:20:08Z</dcterms:created>
  <dc:creator>admin</dc:creator>
  <dc:description/>
  <dc:language>en-US</dc:language>
  <cp:lastModifiedBy>User</cp:lastModifiedBy>
  <dcterms:modified xsi:type="dcterms:W3CDTF">2016-08-26T06:32:06Z</dcterms:modified>
  <cp:revision>16</cp:revision>
  <dc:subject/>
  <dc:title>桃園縣立楊梅國民中學 校務評鑑報告</dc:title>
</cp:coreProperties>
</file>